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himes.wav" ContentType="audio/x-wav"/>
  <Override PartName="/ppt/media/wind.wav" ContentType="audio/x-wav"/>
  <Override PartName="/ppt/media/image13.gif" ContentType="image/gif"/>
  <Override PartName="/ppt/media/image8.png" ContentType="image/png"/>
  <Override PartName="/ppt/media/image7.png" ContentType="image/png"/>
  <Override PartName="/ppt/media/image1.jpeg" ContentType="image/jpeg"/>
  <Override PartName="/ppt/media/arrow.wav" ContentType="audio/x-wav"/>
  <Override PartName="/ppt/media/image12.gif" ContentType="image/gif"/>
  <Override PartName="/ppt/media/image11.png" ContentType="image/png"/>
  <Override PartName="/ppt/media/camera.wav" ContentType="audio/x-wav"/>
  <Override PartName="/ppt/media/image6.png" ContentType="image/png"/>
  <Override PartName="/ppt/media/image10.gif" ContentType="image/gif"/>
  <Override PartName="/ppt/media/image9.png" ContentType="image/png"/>
  <Override PartName="/ppt/media/suction.wav" ContentType="audio/x-wav"/>
  <Override PartName="/ppt/media/image2.png" ContentType="image/png"/>
  <Override PartName="/ppt/media/image5.wmf" ContentType="image/x-wmf"/>
  <Override PartName="/ppt/media/breeze.wav" ContentType="audio/x-wav"/>
  <Override PartName="/ppt/media/image3.png" ContentType="image/png"/>
  <Override PartName="/ppt/media/laser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044-92C0-47EE-859E-FCF8D428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1801-508D-4EF5-AC33-AFBFA8B8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F4B-6DD5-45CB-AB04-E53BB87F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8E14-DB90-4108-9AA6-CDF667F78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0CAF-AF1B-4880-9FF5-861915A1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7FA3-C924-4536-900E-C52026AF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F0A-980F-477F-9521-1B07A1B3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95C-1B97-43C9-8A5E-A6EE06F7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76C3-E04D-4394-BF6B-7F082A68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115-2D03-4446-B00F-ADCD299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151B-F3DA-46B9-9C42-34CCE4C3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7B57-8218-46FD-94CB-382A47DF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2604-97EB-4734-AAC3-1246AA2AAC4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hyperlink" Target="http://www.cooks.com/rec/search?q=peanut+butter+and+jelly" TargetMode="External"/><Relationship Id="rId4" Type="http://schemas.openxmlformats.org/officeDocument/2006/relationships/hyperlink" Target="http://www.cooks.com/rec/search?q=peanut+butter+and+jelly" TargetMode="External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274680" y="1042920"/>
            <a:ext cx="8856720" cy="2365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 Gourmet Recip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ara Davor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omb dir="vert"/>
    <p:sndAc>
      <p:stSnd>
        <p:snd r:embed="rId2" name="las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runchy peanut butt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omemade strawberry ja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wo slices of white brea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il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dissolve/>
    <p:sndAc>
      <p:stSnd>
        <p:snd r:embed="rId2" name="breez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6091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Knif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Spoon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lat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Glass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" name="Picture 2" descr="C:\Program Files\Microsoft Office\Media\CntCD1\ClipArt3\j0233355.wmf"/>
          <p:cNvPicPr/>
          <p:nvPr/>
        </p:nvPicPr>
        <p:blipFill>
          <a:blip r:embed="rId2"/>
          <a:stretch/>
        </p:blipFill>
        <p:spPr>
          <a:xfrm>
            <a:off x="5105520" y="2133720"/>
            <a:ext cx="2127240" cy="1828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  <p:sndAc>
      <p:stSnd>
        <p:snd r:embed="rId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Open jars of peanut butter and jam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pread peanut butter on one slice of bread with a knif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Use a spoon to get jam and spread it on the other slice of bread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t two slices together and cut the sandwich in half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ut the sandwich on a plate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ur a glass of milk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njoy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pull dir="ru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100 children and adults were surveyed to find out what goes best with peanut butter.  33 selected grape jelly, 11 honey, , 46 strawberry jam, and 10 sliced bananas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2" name="Content Placeholder 6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lunch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Birthday par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icnic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Visit from persnickety grandchildr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ate night snack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ool gathering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2" descr="C:\Program Files\Microsoft Office\Media\CntCD1\Animated\j0236450.gif"/>
          <p:cNvPicPr/>
          <p:nvPr/>
        </p:nvPicPr>
        <p:blipFill>
          <a:blip r:embed="rId2"/>
          <a:stretch/>
        </p:blipFill>
        <p:spPr>
          <a:xfrm>
            <a:off x="5562720" y="1752480"/>
            <a:ext cx="1218960" cy="8287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719280"/>
            <a:ext cx="6870960" cy="950760"/>
          </a:xfrm>
          <a:prstGeom prst="rect">
            <a:avLst/>
          </a:prstGeom>
          <a:ln w="0">
            <a:noFill/>
          </a:ln>
        </p:spPr>
      </p:pic>
      <p:sp>
        <p:nvSpPr>
          <p:cNvPr id="57" name="Cloud Callout 2"/>
          <p:cNvSpPr/>
          <p:nvPr/>
        </p:nvSpPr>
        <p:spPr>
          <a:xfrm>
            <a:off x="2590920" y="1676520"/>
            <a:ext cx="2971800" cy="167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Book Antiqua"/>
              </a:rPr>
              <a:t>Wow!</a:t>
            </a:r>
            <a:endParaRPr b="0" lang="en-US" sz="4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2" descr="C:\Program Files\Microsoft Office\Media\CntCD1\Animated\j0178108.gif"/>
          <p:cNvPicPr/>
          <p:nvPr/>
        </p:nvPicPr>
        <p:blipFill>
          <a:blip r:embed="rId2"/>
          <a:stretch/>
        </p:blipFill>
        <p:spPr>
          <a:xfrm>
            <a:off x="2133720" y="3200400"/>
            <a:ext cx="2367000" cy="26766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>
            <a:hlinkClick r:id="rId3"/>
          </p:cNvPr>
          <p:cNvSpPr/>
          <p:nvPr/>
        </p:nvSpPr>
        <p:spPr>
          <a:xfrm>
            <a:off x="5943600" y="419112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Recipes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cut thruBlk="true"/>
    <p:sndAc>
      <p:stSnd>
        <p:snd r:embed="rId5" name="suctio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666880" y="9907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ook Antiqua"/>
              </a:rPr>
              <a:t>Welcom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1" name="Picture 4" descr="C:\Program Files\Microsoft Office\Media\CntCD1\Animated\j0283211.gif"/>
          <p:cNvPicPr/>
          <p:nvPr/>
        </p:nvPicPr>
        <p:blipFill>
          <a:blip r:embed="rId1"/>
          <a:stretch/>
        </p:blipFill>
        <p:spPr>
          <a:xfrm>
            <a:off x="2819520" y="3124080"/>
            <a:ext cx="26762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2:37:04Z</dcterms:created>
  <dc:creator>labuser</dc:creator>
  <dc:description/>
  <dc:language>en-US</dc:language>
  <cp:lastModifiedBy>labuser</cp:lastModifiedBy>
  <dcterms:modified xsi:type="dcterms:W3CDTF">2008-07-09T13:54:21Z</dcterms:modified>
  <cp:revision>13</cp:revision>
  <dc:subject/>
  <dc:title>How to Make a Great Peanut Butter and Jelly Sandwich</dc:title>
</cp:coreProperties>
</file>